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EF7-852A-412A-BF0B-E3AF5C99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D8A-2453-429E-AF04-F0691ADC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B20-0C64-43AF-9847-7DDA41D9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1EA-8A17-440E-A0C1-36CDD7DD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B66-0569-4A6F-B168-AC33A580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44A-30F7-4BEB-ACE8-31DFF65E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858-CFA5-4527-BEB8-E32ADC22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C2C-0D9D-46A9-BE76-62D646D2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50B-70B0-4A08-95E6-80268BC2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729-C2CC-4D7F-ABE5-08FCD6A6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BC8-62D0-4120-A04C-56D6F9F1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4380-73E9-4EE0-BA9A-630E586D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4AE2-A10D-4657-B24E-6353E7F17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Investing &amp; Ret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838080" y="1295280"/>
            <a:ext cx="7620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reach long term financial goals, such as buying a house or saving for retirement, you mu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of 7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uideline for determining how many years it will take an investment to double in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number of years required for an investment to double in value, divide 72 by the annual percentage rate (A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invest $1,000 at 3 percent interest, how long will it take for your money to dou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3= 24 years to $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will it take $10,000 to double at 8% inter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8= 9 years to $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the power of compound inter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i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 in mind what we have learned about compound interest and the rule of 72, and start saving and investing now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tual Fu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pool on money managed by an investment company and invested in multiple companies, bond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s investors a variety of goals depending on the fund and its investment charac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 used to generate income on a regular basis or to preserve an investor’s mo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 nice to your future self and save for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tire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1(k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efined contribution plan offered by a corporation to its employees, which allows employees to set aside tax-deferred income for retirement purposes; in some cases, employers will match their contribu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ividual retirement Arrangement (IR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-deferred arrangement for individuals with earned income and their non-income-producing spouses; growth is not taxed until money is withdrawn; contributions to an IRA are often tax-deduct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h IR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tirement account funded with after-tax dollars that subsequently grows tax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Leif Erickson</cp:lastModifiedBy>
  <dcterms:modified xsi:type="dcterms:W3CDTF">2011-07-29T19:09:26Z</dcterms:modified>
  <cp:revision>16</cp:revision>
  <dc:subject/>
  <dc:title>Road to Financial Maturity</dc:title>
</cp:coreProperties>
</file>